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ADD9-8C18-40A2-8339-87E9C9C7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E615-E6A9-432C-8079-A50580E1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7354-723B-4282-B657-86572C84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AE49-436D-4CCE-93EC-3F2908AD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EDCA-EE74-4C68-8C26-C42DEA99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E39F-5BB0-4371-948E-39B8B2AC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9E1A-68CA-4CF1-AF04-551E6996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D829-50F7-48BC-BFBE-EBBA3564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5263-FE2C-4032-9BDD-6B01FE3D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FE14-EFA9-4120-A7B0-ED6129A6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49BA-9475-4381-9521-3ECEC867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AE1A-FD56-488E-A88B-C1A6BAC7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A5B7-20D2-410C-9AE4-69D39CC1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3E1B-53D1-43AB-8752-D3A047E8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1B3D-16AE-4BAE-8F37-FD55EC1D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E7F0-CC91-436C-B638-C8104EA8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1BDA-7F84-4077-94FC-CE7361E38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7F2A-1F14-4982-B239-E65DB75A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E24A-23CB-4DC6-A186-00A2B8BC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3813-4B1A-4E05-9200-7AC0AEE2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AB31-2F1F-4C62-9927-AEF5B2A1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358A-37BB-4B62-A618-2C318DB3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351-7D86-4ACE-882E-B43372CB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0888-AE78-4A47-888E-9F213420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1AA7-5984-4A15-8F68-7280B3990D0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F1AC-5D58-42A0-A508-D76AB9A2437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reez si calculez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Numarul grupe…………………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Numele si prenumele elevilor :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lev1……………………………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lev2……………………………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lev3…………………………..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Elev4……………………………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                 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ARCINA DE LUCU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egeti un fenomen chimic cunoscut de voi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crieti corect ecuatia reactiei chimic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lculati cantitatile de substante intrate si produse pe baza ecuatiei reactiei chimic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catuiti o problema de calcul de tip stoechiometric pe baza ecuatiei reactiei chimic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rezentati rezolvarea exercitiului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EMPLU DE REACTI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enomenul ales:-stingerea varului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cuatia reactiei chimice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aO +H2O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-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--&gt; Ca(OH)2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1mol    1mol         1mo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O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=40+16=56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2O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=2x1+16=18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a(OH)2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=40+2(16+1)=74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nuntul exercitiului 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ate kg de lapte de var obtinem prin  stingerea a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8 kg var nestins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zolvarea exercitiulu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atele problemei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CaO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=28k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</a:t>
            </a: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Ca(OH)2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= 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56kgCaO……………….74kgCa(OH)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28kgCaO…………………..X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X=28x74/56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X=74/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X=37                                                                          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terpretarea rezultatului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asa varului stins obtinut prin stingerea a 28 kg CaO s-au obtinut 37kg Ca(OH)</a:t>
            </a:r>
            <a:r>
              <a:rPr b="0" lang="en-US" sz="1600" spc="-1" strike="noStrike">
                <a:solidFill>
                  <a:srgbClr val="ffcc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11:38:47Z</dcterms:created>
  <dc:creator>Cursant12a</dc:creator>
  <dc:description/>
  <dc:language>en-US</dc:language>
  <cp:lastModifiedBy>andras</cp:lastModifiedBy>
  <dcterms:modified xsi:type="dcterms:W3CDTF">2010-08-25T13:30:28Z</dcterms:modified>
  <cp:revision>3</cp:revision>
  <dc:subject/>
  <dc:title>Creez si calculez…</dc:title>
</cp:coreProperties>
</file>